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98D-9982-481D-881F-12BCC390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3E5-6722-44E0-B59A-DA7B2283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066-34B6-4CDE-8FEC-F33916F4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5C4-2CA8-422B-8C4B-D2397839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352-E6E2-42D5-8AC0-926956E3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D1D-F339-4EFE-B972-BF5617E3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024-DA05-4D6E-BD9E-3E01D7DD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2F1-5489-460B-A1FD-4088F4C4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FD1-C96E-4CF2-984A-B15255E7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833-5197-4C0E-A33F-2C72F9C5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EA7-3DCF-4F8E-A730-81837872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3CB-AA29-42E6-B562-49A949A3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B159-0316-45F4-A724-184BCE3FEF4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0 Ježiš prišiel hriešnych spasi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prišiel hriešnych spas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iť ťarchy ví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 ťa náruč otvor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by hriech t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 jak šarlát dvakrát farb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ho rád za biele rúc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 len Pánu Ježiš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oľ si lepší d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y sníme, radosť vrá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2:10:32Z</dcterms:modified>
  <cp:revision>20</cp:revision>
  <dc:subject/>
  <dc:title>Je veľký náš Pán, on slávy je Kráľ Nech do všetkých strán  spev vrúcnych znie chvál.</dc:title>
</cp:coreProperties>
</file>